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E771-4791-43EB-818C-A683C2A02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E34D-3A5F-4C60-B39A-072C385C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3B5358-E70C-4FFB-9D00-07D721CD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FAA6E-58F6-4AA6-9319-ADD0BE33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11A0A-83B4-4A8C-B4F8-792635C1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97F4D-3706-4B2A-9718-78614ECA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D7330-3C99-4CDF-A307-BC0D5FEA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C0B62-54E0-4A08-AAFE-47D8EDFF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8EC11-CE21-4D4D-894A-E2111D62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2466B4-1AB6-4A8E-84C1-BE3FDD34F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39C5C-9892-44E1-9E7B-5033DB834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2D2172-49D7-4086-B94C-250C9BBC6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C7D0-F788-467F-B5D5-5CE9C85B3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4E16EA-338D-4F8A-AA95-C95CF5C9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3D1516-85C2-47CC-A9A7-24B31A95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451895-B9D7-4142-AB65-F7BEC9C6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72E0FC-4722-49DE-8DE9-4A44D032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712B35-7E06-425B-B529-C6F2F871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D41164-0C28-4F95-88E2-5975B179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72F6DF-1318-4CEA-9CCA-BD305EA5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B2DA3-755F-4505-A783-3800E8E6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C41296-9FB6-4C80-ACB3-26B698FF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1A2B45-1B9C-4D28-A99A-7B5C74519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7209-5BD9-4FFD-9DBB-7B10F112C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FD8406-2AD3-47BE-9F37-B68A50E5C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2939C-8F79-4377-99AF-4DBCC4F9C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4B154-4939-4F26-B93F-BC90C99C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D34F5-8A33-42E4-B9CB-1225D2DB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5D056-9D55-450A-9036-EE81AEAC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87B75-14D8-4B66-9C21-00562944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9E879-0B4D-4CD1-A87A-6B38549C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9F5ED0-C8EA-48F8-A142-03FDAEC2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B9F45-1A02-4353-A505-AC36B4BE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B6B5C-C75F-4BCB-A432-F00E7D93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A7D68-B49B-48C8-9654-12100C383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0F723-9571-4CEE-B85F-3756B13E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E6D65-5AC3-4C50-AD64-DA6AA4F0A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E63B2-8D22-4466-B59E-7ADB0C722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E285B0-6ECA-4104-A226-F70EA35CE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B3FD49-A131-4CD4-BB0C-7CE52FCA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AD6218-4346-4391-B8A0-67FF88B0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12D24D-7D5E-488A-8AE1-77D5C64B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A4D62F-85A9-48B7-9CFB-6533DB41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60F4E3-9485-4DFA-9EAB-ECF23F0F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D2AF15-7DA2-4AD4-B264-FEFF1BAD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3CEDA-44B5-44B0-9863-8A26DBE4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DA79A7-56F1-42D5-96FF-77D203C3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8A9CDF-CAF7-4ABE-96B5-60BB3D21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7798DF-C64F-4058-8A62-059B5865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28156E-D350-4EF3-B8FC-C89E7A4D1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89F7A7-06C4-4FFA-9BDB-0F6A9BE2C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86CF-38EF-43AB-BFC0-6141E98C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BD88-AEB8-41A4-BD6E-554C102A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74A5-0721-4757-9A0A-56012CBA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012F-73A4-49CA-8ABF-D75DFADD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06EE-7938-4004-A5D5-C2626EB2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2C07-A0EC-4952-AB4E-70EC5A27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4A0E-97F3-4886-A571-43AE065C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B8A2-217F-49C1-B51E-FF48CF4B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19C1-C992-445C-B983-8D5B2B49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2ED8-295A-455A-AECF-E980A91F1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D3C1-0C91-44FB-9C9A-6D5E3827E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C7CAEB-0FF7-4BD4-B49D-C6C98C6FF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59056C-817D-447E-A481-EB86A6F6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310482-69A8-49C5-8BE7-C097F6CC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A5C4C7-B6C7-4E14-9F02-DA84F603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A1A3C7-20A5-4D08-9AA4-84F07A5E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0EE9-0D80-421A-B0CD-22BF3342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33C2D3-5BC2-43CF-B4E3-B9E06A30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8C7720-2360-491F-B792-52226F4F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547F80-D04B-4F16-B153-29B21CE6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5D5FC9-BB7B-4CF9-9CEA-B711024F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91878F-2CC3-4DF7-840A-E209D9B7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EE558E-AC1A-4F85-83B1-1EB0850F4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708284-1344-42B0-A402-854201F84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7BFFC-0788-4F81-AD9D-8EA60B136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4E062-7579-4127-A90B-0F5D6660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F0783-8088-44CD-A595-D5098DFF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41D2-FF46-4F4F-B577-AFE60ED4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9E6A6-6B0D-42D1-B92C-A618CBD3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8A344-A0F9-4027-BF13-450A1807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84766-8DAF-4CD3-92FA-CFEEDCEE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592F0-F2E9-4CC8-BB83-E6CB1173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E890A-6DAF-4649-9AD0-0B8E43D4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9E8A3-2379-43B4-B9EB-2036D579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3DD44-E81A-4086-84D0-2509CA2D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9C05D-9625-46AB-931B-3885B340E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301B5-B6B6-41F1-B04C-46BF5B234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3E3D2-C34D-42BA-8F0C-816F6B549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4179-8FD5-4DF6-AD56-82C69597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0AA68-B554-49B3-94DD-B0BC2826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5B7AA-BB34-47CB-96FA-1D225149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CE14B-0656-4850-A1C6-25258052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92939-1A93-49EF-B7AC-338BC9B0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9D5AA-F1C1-435D-A6AF-2294C998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27C89-EE72-43FA-A721-202CCF90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C8630-9A90-4847-A987-70BFEBE7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64579-4E4E-461F-813B-3B2A6D5E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6657F-131E-4C0F-B6B8-527BE09E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FB3B7-8ACF-4753-8114-BDB675C8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EB83-648C-4B79-A59A-972B77B9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71DF8-81D5-4B94-BE96-F584A49A7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B4ACF-0C73-4B44-B502-F46445963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4B21C-C3F8-4C62-B7C6-91737B54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849E2-7B0D-4E15-8236-578BD2CA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A8BBB-685B-423E-9635-359318C3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79370-A65D-420C-804C-DB370BE1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D70A7-700F-4AFB-8191-47CD3254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605DE-D1F6-412D-AE5B-4ADC6F99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DF24E-33CB-4E08-AC4C-6BB2DB98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A3EB8-B479-42D9-85C0-62A34C5A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E51F-C85D-4B4D-8702-658CF7E9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2E8FE-602B-46D7-A6C9-9C42D1E9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1283B-8B05-4CB1-90A6-10D33306C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E1721-9CE9-4B3D-BAA6-F532CA7B6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D23B6-61F5-4F4D-BC9C-A84BC6624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083EA-C324-48EC-94B8-A1DA368E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205BB-431F-45C6-8E82-08351285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F6CCB-5820-4D65-9218-D35131D4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7D783-BF2C-4D19-BAB3-07404A82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91E5F-78DB-4721-B2A5-33205783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3E584-B03E-4005-B9CB-278EB93A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CC59-EC4F-4F5A-86EA-FF66ACD5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35E45-B567-4FC0-9C0A-DA1428FE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21464-9194-4C3D-A1A2-6D999177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EDBBF-8534-4241-BA2B-5AD57A02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B0446-53F4-402B-B0BD-D57D05CCB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CA836-3F45-4B57-8DD0-7C1872B3C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1141C1-E139-4654-8297-8F948AA62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11BFEC-F2F7-4DAD-A2B1-AE0C097F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DB48D6-040A-4AC8-B496-41B3120C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B073F1-413A-457C-9AE0-F93632E0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ADB5D5-1E1B-42A9-9520-0D446DFD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19F5-FCF3-43F5-AA08-598C2169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91CC5C-6DDD-46A4-8387-9B778A69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91480E-6BBB-445A-9601-75DE8FC4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6C8D54-63BC-438D-ADFF-64C196CD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C4C5A2-2F1C-4EE6-9642-1C52B173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A89077-C614-44BD-A0E2-940F7FEF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A426EB-812B-4E7E-9958-14C2783A9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F8F1D5-7EAE-4C61-9AC7-C04D48046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E4DEF-EA3E-4AAD-AC64-63A900338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434246-D68A-4C4F-A67F-F961B8FD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577425-3BDD-40CB-AC28-54C17234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A14D-CB60-4534-9135-6D9C4D7D0A0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99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5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E7D8-4759-480C-868F-D79DBF71F3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5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946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13C7-305D-4D3C-9943-05BB6F31F60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003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B8A9-491B-4548-A9E8-F4316B19CEE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3C67-AAC9-4562-AB08-890AC4C5235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6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6874-1D4A-4AEA-9583-EA71A1FF6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41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35B1-488C-47CD-887E-1ACD8DBDD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674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5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676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8AB9-CB39-4D0A-AABF-055FC417500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721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2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723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727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3BD2-0BF3-4ED7-BAF6-07843180FD3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4920-5EB9-4132-A1E5-4BA1B1DF7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AEF0-EFDB-46F9-8412-ACB51E872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852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E357-47D9-4CCA-805A-5BFA117C44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Имя существительное</a:t>
            </a:r>
            <a:br>
              <a:rPr sz="4000"/>
            </a:br>
            <a:br>
              <a:rPr sz="40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5класс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Телицина Ирина Николаевна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учитель русского языка, 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Спасский район,с.Три Озера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dfdef6"/>
                </a:solidFill>
                <a:latin typeface="Arial"/>
              </a:rPr>
              <a:t>Морфологические признаки: 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2700000" y="2276280"/>
            <a:ext cx="59864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менение  п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исл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од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адеж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клонение  имен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уществительных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ерво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од.пад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 дороги   (у земл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ат.пад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дороге (по земл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едл.пад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 дороге (о земле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лько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в безударном оконч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учат неяс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 втором и третьем склонениях  толь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ин вариант написания –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 скл.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3 скл.).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Имена существительные</a:t>
            </a:r>
            <a:br>
              <a:rPr sz="4000"/>
            </a:br>
            <a:r>
              <a:rPr b="0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одушевленные и неодушевленные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2126880"/>
            <a:ext cx="8229600" cy="36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душевленные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КТО  ЭТО?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волк, лисица, заяц, тигр, лес, поляна, дом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одушевленные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ЧТО  ЭТО?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очаровательные ночи, струится свет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улыбающееся солнце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Имена собственные и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                      нарицательны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Город, деревня, океан, озеро, рек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н а р и ц а т е л ь н ы 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Имена людей, названия рек, город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улиц пишутся с заглавной буквы 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являются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собствен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0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0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362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Род  имен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существительных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          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2842920"/>
            <a:ext cx="8229600" cy="32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Женский :       весна, земля…(- а, я -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Мужской :    дуб, брат, цвет, предмет…(- без окон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Средний :    кино, пальто, окно….( - о -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07:09:27Z</dcterms:created>
  <dc:creator>A0001</dc:creator>
  <dc:description/>
  <dc:language>en-US</dc:language>
  <cp:lastModifiedBy>A0001</cp:lastModifiedBy>
  <dcterms:modified xsi:type="dcterms:W3CDTF">2002-12-05T12:50:34Z</dcterms:modified>
  <cp:revision>12</cp:revision>
  <dc:subject/>
  <dc:title>  Имя существительное 5класс  Телицина Ирина Николаевна,учитель русского языка,Спасский район,с.Три Озера</dc:title>
</cp:coreProperties>
</file>